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5C5-86CA-4E56-AFBB-55CB6970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1DC-F218-4014-A328-1AB9E421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EA12-5ADA-4564-80D3-FE5D5459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B15-849E-4216-B9B8-264B1F7A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D75-0EDE-48E0-A520-ECAB23B1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01A-3FE7-4716-A973-E2D1ACA2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8D8-24A6-4588-9209-6D61B266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77E-7796-4718-844A-0FD028FB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585-1AB3-46A7-84B3-ACF63FF6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E4F-6ABF-42DA-B2F0-0DB5ED09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533-D5EB-4CED-8E0F-99AA7497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CC7-BC9E-40D1-804A-2895E15A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21E8-C77C-4AB1-B38D-03F1969D3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 Problems: H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Term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otyp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the letter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:  in a basic monohybrid cros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C : Cc : cc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draw me a pictur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it look li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Term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terozygote; typically does NOT show the tra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e-breedi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omozygous; does NOT refer to dominance or recessiveness. The rest of the problem will tell you or have c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ohybrid Cro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ant or rece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ant trait shows through in heterozygous cro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21:19:56Z</dcterms:created>
  <dc:creator>Joanne Lilliendahl</dc:creator>
  <dc:description/>
  <dc:language>en-US</dc:language>
  <cp:lastModifiedBy>Preferred Customer</cp:lastModifiedBy>
  <dcterms:modified xsi:type="dcterms:W3CDTF">2011-04-25T09:55:40Z</dcterms:modified>
  <cp:revision>3</cp:revision>
  <dc:subject/>
  <dc:title>Genetic Problems: Hints</dc:title>
</cp:coreProperties>
</file>